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61B3-3A77-4440-BECB-F957C8A1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E718-5133-44EF-9E7E-00EA17C0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A6F2-B7C0-4A63-8776-EB4C882C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FB2E-57F0-49A0-8888-F761DBDA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8845-9020-4168-95D7-64329149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C1EC-D044-491A-A3E8-8DEA31FD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9174-7497-4689-8653-8967B654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0C29-642D-4669-B2A8-19D5F7D5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A727-5830-49F1-A97B-08636C7E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10BD-EB44-41DB-A9E8-A658D0D3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71A0-A0C7-4F14-96D9-4EF53A89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5A90-F1FE-48F7-B623-0CD5BDF5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4679-0DF9-4CC3-B1EC-982BE6DF7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8.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vision Properties of Ex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7524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viding Powers with the Sam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498312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5105520" cy="714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990720" cy="933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191120" y="1828800"/>
            <a:ext cx="121896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746784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576600" cy="583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63244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6705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010280" cy="897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1295280" cy="836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495680" y="1752480"/>
            <a:ext cx="1143000" cy="565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62120" y="3809880"/>
            <a:ext cx="137160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5:14:15Z</dcterms:created>
  <dc:creator>Susannah Graham</dc:creator>
  <dc:description/>
  <dc:language>en-US</dc:language>
  <cp:lastModifiedBy>grahams</cp:lastModifiedBy>
  <dcterms:modified xsi:type="dcterms:W3CDTF">2010-10-05T18:14:12Z</dcterms:modified>
  <cp:revision>3</cp:revision>
  <dc:subject/>
  <dc:title>Lesson 8.5 Division Properties of Exponents</dc:title>
</cp:coreProperties>
</file>